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hammer.wav" ContentType="audio/x-wav"/>
  <Override PartName="/ppt/media/cashreg.wav" ContentType="audio/x-wav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DCC-615D-4897-98A8-0A3F5B32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80C-923F-4F3C-B2F1-2F5F0BDE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A52-CDB6-4D1C-8D53-4AD6CAD6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5E8-97F5-44EB-81CF-AD1DDD21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B8C-3F37-4E40-B798-592115D7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D70-123B-4861-9D05-CD6F6E59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19F-EC88-4B1F-9F07-77A51EFA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81A-D320-49D2-8203-3BAD373A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E9C-B454-49FD-B9B2-92E662CE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84E-99E7-41B1-A2C9-E0FEEF1F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E7B-3AF6-410A-A747-70CD5EE1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BF7-AD6E-46B1-A76C-7F56192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e8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D5A4-6725-4B00-8FA6-977BE28C1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u"/>
    <p:sndAc>
      <p:stSnd>
        <p:snd r:embed="rId2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ичная структура белковой молекулы образуется за счет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1)  пептидных связе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2)  водородных связе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3)  дисульфидных мостик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4)  электростатическог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тя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762120" y="2286000"/>
            <a:ext cx="5790960" cy="685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рушение третичной  структуры белка – это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1)  изомериз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2)  дегидрат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3)  дегенер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4)  денатур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38080" y="4876920"/>
            <a:ext cx="4343400" cy="685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натурация белков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н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исходит при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нагреван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действии тяжелых металл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растворении в вод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 действии этилового спи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80880" y="4495680"/>
            <a:ext cx="6019920" cy="685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тивом на белок является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 Br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pаствоp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 HN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ц.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 лакму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аммиачном раств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33520" y="3124080"/>
            <a:ext cx="3657600" cy="7621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чественной реакцией н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лок является: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реакция бромирова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ксантопротеинова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реакция с индикатор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 реакция серебряног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ерк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80880" y="3809880"/>
            <a:ext cx="8077320" cy="685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2" name="hammer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минокислоты и бел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219320" y="5257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тановите соответстви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ула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578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) спир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альдег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кет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карбоновые 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) амино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) 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04920" y="2209680"/>
            <a:ext cx="3429000" cy="6098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5181480" y="3962520"/>
            <a:ext cx="2971800" cy="99036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04920" y="2895480"/>
            <a:ext cx="2819160" cy="60984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5257800" y="2133720"/>
            <a:ext cx="2057400" cy="53316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04920" y="3581280"/>
            <a:ext cx="4343400" cy="60984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5181480" y="5105520"/>
            <a:ext cx="3353040" cy="4572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304920" y="4267080"/>
            <a:ext cx="2361960" cy="6098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181480" y="5715000"/>
            <a:ext cx="1981440" cy="4572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тановите соответств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звани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ала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бу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метан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метан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0240" y="159984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альдег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пи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амино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алк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) дие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) ар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685800" y="2286000"/>
            <a:ext cx="2209680" cy="5335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4724280" y="3657600"/>
            <a:ext cx="3886200" cy="5335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685800" y="2971800"/>
            <a:ext cx="1905120" cy="5335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4724280" y="4343400"/>
            <a:ext cx="2362320" cy="5335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685800" y="3657600"/>
            <a:ext cx="2743200" cy="53352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4724280" y="2286000"/>
            <a:ext cx="3124440" cy="53352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685800" y="4343400"/>
            <a:ext cx="2514600" cy="53352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4724280" y="2971800"/>
            <a:ext cx="2438640" cy="53352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щество, формула которого 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COOH, проявляет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мфотерные свойств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2)  только свойства органическ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сло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3)  только свойства органическ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4)  не проявляет ни кислотных, н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х св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33520" y="2057400"/>
            <a:ext cx="7467480" cy="609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мфотерные свойства аминоуксусной кислоты подтверждаются ее взаимодействием с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  кислотами и солям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  щелочами и спиртам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  кислотами и щелочам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 спиртами и со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5280" y="4952880"/>
            <a:ext cx="7315200" cy="6098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ислотные свойства проявляет каждое из двух веществ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HCl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OH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C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C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 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286000" y="2895480"/>
            <a:ext cx="5257800" cy="7621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минокислоты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н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реагируют ни с одним из двух веществ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 NaOH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 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a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 NaCl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 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600200" y="4495680"/>
            <a:ext cx="3581280" cy="7621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миноуксусную кислоту можно получить в одну стадию из кислоты, название которой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 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сусна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 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лоруксусна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 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пионова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 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-хлорпропион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600200" y="4038480"/>
            <a:ext cx="4800600" cy="685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1" name="hammer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химии</cp:lastModifiedBy>
  <dcterms:modified xsi:type="dcterms:W3CDTF">2015-04-10T04:27:1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